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8BC-F629-46DF-98FA-81E62647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65B-E11B-466E-849D-9D38D4D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75D-506B-4CD2-9306-1A298DEB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82D-C4D4-4581-ADF6-0DB39965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1D6-DEA1-45DC-AF36-3D7EF4DC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F8F5-32B0-467D-BD0B-B9117EE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BF94-2AC0-434F-8724-A53DE8C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0381-8961-4890-8D16-7DBD80B9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00D8-D4E6-4DD2-800E-14476750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A4D-28AA-46BA-86BA-30F744D1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5DC3-7B26-41D0-9204-CA1ECCA5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352-321F-40C5-B92E-5A88736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D0D0-2934-4E57-8F34-28309E2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C199-2EBC-4A0C-8658-0DB1C55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A68-2594-4001-8BF4-C472114C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EC34-6182-4D15-8222-338B88B5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5C2B-4441-452D-81D2-63E4C4D3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D5B-5012-476B-B706-26C8D9CE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1F7-618F-4D4D-9712-A171E52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C4B8-5E98-4467-A2F5-A55F2E32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EDD-2E7C-475C-A426-4E4C9AF4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3BA-2C86-4B69-81F3-C2C0229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DB9-0304-4F31-A079-608BC58A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99B-1C8A-4F32-B56A-8D664B7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5E2-4FC1-4440-9135-EB3B5F2FD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341C-497A-4644-BE09-073157DC5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00240" y="4343040"/>
            <a:ext cx="3886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UT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57913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 in DNA Seq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CC  TTA  CCC  GAT  CTA  TTA  CGG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TA  TAT  CGG  AAA  GCA  T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576360"/>
            <a:ext cx="7925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30592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15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rigin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AC  CGG  TTA  CCC  GAT  CTA  TTA  CG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CGG  TTA  CCC            CTA   TTA  CGG  AT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TCG  GTT  ACC  CGA  TCT  ATT  ACG  GAT 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GGG  TTA  CCC  GAT  CTA  TTA  CGG  AT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   CCC  ATT  GGC  GAT  CTA  TTA  CGG  AT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22:41:44Z</dcterms:created>
  <dc:creator>udsd</dc:creator>
  <dc:description/>
  <dc:language>en-US</dc:language>
  <cp:lastModifiedBy>udsd</cp:lastModifiedBy>
  <dcterms:modified xsi:type="dcterms:W3CDTF">2008-05-23T13:09:15Z</dcterms:modified>
  <cp:revision>3</cp:revision>
  <dc:subject/>
  <dc:title>MUTATIONS</dc:title>
</cp:coreProperties>
</file>